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AB3-9FE9-4D04-9F4E-37164A88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9A9-505D-48B4-9ED5-24109A22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E06-7267-4DF5-AC2E-2F0D76EA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DA2-F779-4308-9FCA-38BD0E38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5974-C3B2-416A-B972-D234D4A8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1C85-219C-47FB-9E7C-A640D6D9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9F65-2100-4FCF-9F07-AD9E8C91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3D43-DF2F-4BA9-B6F3-E6FC7829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2BC1-228C-4176-9042-F5BE03BF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3639-2144-4ECF-8088-C3E79F0E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721B-2A8A-423F-ACE8-9FBC9904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59C-EFC2-4BAF-9E1E-AAB5428A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265C-7532-4B2D-BDA8-A3BF49EB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7CE1-8461-4FA8-BB93-EEAFCA6C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62BA-DBB4-46CE-9707-2EA9323E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EA10-1BF4-4876-B3D8-F3D7F2C3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9C96-EA74-44A9-9D87-75874A3D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ED1-A691-4E2E-BABF-9F88ED08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CC0-3DEF-4338-8E34-5D555EF9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31A-CA22-4E94-89F0-C93B599F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011-0EF0-4578-B459-3EB271F2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B9A-24A9-467F-956A-2550A6A8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A9A-FC0F-46C1-881B-EB83CCEF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4FB-428B-4F5D-95F3-18F95806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92F6-B2D0-4749-A77D-8DD94D65A02B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D187-0B43-4495-ADFF-44694121E2DD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bib.uc3m.es/~mendez/imgimg/oveja.jpg&amp;imgrefurl=http://www.bib.uc3m.es/~mendez/img.htm&amp;h=173&amp;w=269&amp;sz=18&amp;tbnid=8zo0VQ6JurgJ:&amp;tbnh=69&amp;tbnw=108&amp;hl=es&amp;start=44&amp;prev=/images%3Fq%3Doveja%2B%26start%3D40%26svnum%3D10%26hl%3Des%26lr%3D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es/imgres?imgurl=http://www.chicureo.com/Destacados/provisorio/AranaTigre_th.jpg&amp;imgrefurl=http://www.chicureo.com/Destacados/aranatigre_m.htm&amp;h=280&amp;w=200&amp;sz=8&amp;tbnid=djO_x-dfbhIJ:&amp;tbnh=109&amp;tbnw=77&amp;hl=es&amp;start=3&amp;prev=/images%3Fq%3Dara%25C3%25B1a%26svnum%3D10%26hl%3Des%26lr%3D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es/imgres?imgurl=http://www.indicedepaginas.com/mariquita.gif&amp;imgrefurl=http://www.indicedepaginas.com/eco_marzo.html&amp;h=300&amp;w=300&amp;sz=36&amp;tbnid=Jo7DviGaJBUJ:&amp;tbnh=111&amp;tbnw=111&amp;hl=es&amp;start=3&amp;prev=/images%3Fq%3Dmariquita%26svnum%3D10%26hl%3Des%26lr%3D%26sa%3D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es/imgres?imgurl=http://www.htemexico.com/files/aguila.jpg&amp;imgrefurl=http://www.htemexico.com/convencion.html&amp;h=210&amp;w=280&amp;sz=9&amp;tbnid=LPGXieLXiMMJ:&amp;tbnh=81&amp;tbnw=109&amp;hl=es&amp;start=1&amp;prev=/images%3Fq%3Daguila%26svnum%3D10%26hl%3Des%26lr%3D%26sa%3D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es/imgres?imgurl=http://www.elsalvador.com/hablemos/Ediciones/111101/fotos/PECES.JPG&amp;imgrefurl=http://www.elsalvador.com/hablemos/Ediciones/111101/medioambiente.htm&amp;h=228&amp;w=190&amp;sz=17&amp;tbnid=rER6JQbS_xEJ:&amp;tbnh=103&amp;tbnw=85&amp;hl=es&amp;start=10&amp;prev=/images%3Fq%3Dpeces%26svnum%3D10%26hl%3Des%26lr%3D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es/imgres?imgurl=http://www2.udec.cl/~fralarco/leones/leones4.JPG&amp;imgrefurl=http://www2.udec.cl/~fralarco/leones/fotos1.html&amp;h=372&amp;w=556&amp;sz=25&amp;tbnid=epa2FPsF8XYJ:&amp;tbnh=87&amp;tbnw=131&amp;hl=es&amp;start=5&amp;prev=/images%3Fq%3Dleones%26svnum%3D10%26hl%3Des%26lr%3D" TargetMode="External"/><Relationship Id="rId12" Type="http://schemas.openxmlformats.org/officeDocument/2006/relationships/image" Target="../media/image9.jpeg"/><Relationship Id="rId13" Type="http://schemas.openxmlformats.org/officeDocument/2006/relationships/hyperlink" Target="http://images.google.es/imgres?imgurl=http://www.animalweb.cl/noticias/not-fotos/oso%2520pardo.jpg&amp;imgrefurl=http://www.animalweb.cl/noticias/asesinan_a_canela.htm&amp;h=244&amp;w=183&amp;sz=13&amp;tbnid=wN3iPGe1aUQJ:&amp;tbnh=105&amp;tbnw=78&amp;hl=es&amp;start=2&amp;prev=/images%3Fq%3Doso%26svnum%3D10%26hl%3Des%26lr%3D%26sa%3DG" TargetMode="External"/><Relationship Id="rId14" Type="http://schemas.openxmlformats.org/officeDocument/2006/relationships/image" Target="../media/image10.jpeg"/><Relationship Id="rId15" Type="http://schemas.openxmlformats.org/officeDocument/2006/relationships/hyperlink" Target="http://images.google.es/imgres?imgurl=http://bosquesanpatricio.homestead.com/files/gusano-g.jpg&amp;imgrefurl=http://www.lesclat.com/modules.php%3Fname%3DNews%26file%3Darticle%26sid%3D559&amp;h=392&amp;w=600&amp;sz=23&amp;tbnid=3EfBVDp530QJ:&amp;tbnh=86&amp;tbnw=133&amp;hl=es&amp;start=1&amp;prev=/images%3Fq%3Dgusano%26svnum%3D10%26hl%3Des%26lr%3D" TargetMode="External"/><Relationship Id="rId16" Type="http://schemas.openxmlformats.org/officeDocument/2006/relationships/image" Target="../media/image11.jpeg"/><Relationship Id="rId17" Type="http://schemas.openxmlformats.org/officeDocument/2006/relationships/hyperlink" Target="http://images.google.es/imgres?imgurl=http://www.parks.it/parco.po.to/foto/Rana.Verde-800.jpg&amp;imgrefurl=http://www.parks.it/parco.po.to/par-info.html&amp;h=600&amp;w=800&amp;sz=102&amp;tbnid=natTt9PglisJ:&amp;tbnh=106&amp;tbnw=142&amp;hl=es&amp;start=3&amp;prev=/images%3Fq%3Drana%26svnum%3D10%26hl%3Des%26lr%3D" TargetMode="External"/><Relationship Id="rId18" Type="http://schemas.openxmlformats.org/officeDocument/2006/relationships/image" Target="../media/image12.jpeg"/><Relationship Id="rId19" Type="http://schemas.openxmlformats.org/officeDocument/2006/relationships/hyperlink" Target="http://images.google.es/imgres?imgurl=http://www.leoloqueveo.org/carnepescado/pulpo.jpg&amp;imgrefurl=http://www.leoloqueveo.org/alimenanimal.htm&amp;h=201&amp;w=224&amp;sz=13&amp;tbnid=HeSuQbUi-2kJ:&amp;tbnh=91&amp;tbnw=102&amp;hl=es&amp;start=3&amp;prev=/images%3Fq%3Dpulpo%26svnum%3D10%26hl%3Des%26lr%3D" TargetMode="External"/><Relationship Id="rId20" Type="http://schemas.openxmlformats.org/officeDocument/2006/relationships/image" Target="../media/image13.jpeg"/><Relationship Id="rId21" Type="http://schemas.openxmlformats.org/officeDocument/2006/relationships/hyperlink" Target="http://images.google.es/imgres?imgurl=http://www.terrario.org.ve/images/anireycalifornia.jpg&amp;imgrefurl=http://www.terrario.org.ve/animales.htm&amp;h=198&amp;w=198&amp;sz=14&amp;tbnid=0rE4AH7Z_3gJ:&amp;tbnh=99&amp;tbnw=99&amp;hl=es&amp;start=16&amp;prev=/images%3Fq%3Dserpiente%26svnum%3D10%26hl%3Des%26lr%3D" TargetMode="External"/><Relationship Id="rId22" Type="http://schemas.openxmlformats.org/officeDocument/2006/relationships/image" Target="../media/image14.jpeg"/><Relationship Id="rId2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harcourtschool.com/glossary/science/images/gr1/senses1.jpg&amp;imgrefurl=http://www.harcourtschool.com/glossary/science/define/gr1/senses1a.html&amp;h=109&amp;w=380&amp;sz=17&amp;tbnid=MH75bEzStfMJ:&amp;tbnh=34&amp;tbnw=119&amp;hl=es&amp;start=42&amp;prev=/images%3Fq%3Dsentidos%2Btacto%26start%3D40%26svnum%3D10%26hl%3Des%26lr%3D%26sa%3DN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bermudas.ls.fi.upm.es/~gonzalo/imagenes/fotos/edmonton/ciervo.jpg&amp;imgrefurl=http://bermudas.ls.fi.upm.es/~gonzalo/edmonton04.html&amp;h=768&amp;w=1024&amp;sz=293&amp;tbnid=iPYEfVAS3KEJ:&amp;tbnh=112&amp;tbnw=150&amp;hl=es&amp;start=10&amp;prev=/images%3Fq%3Dciervo%26svnum%3D10%26hl%3Des%26lr%3D%26sa%3DG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ages.google.es/imgres?imgurl=http://www.liderdigital.com/imagenes/noticias/foto2/Vida_animal-leones.jpg&amp;imgrefurl=http://www.liderdigital.com/imagenes/noticias/foto2/&amp;h=377&amp;w=250&amp;sz=65&amp;tbnid=FoYUUHLk5aQJ:&amp;tbnh=119&amp;tbnw=78&amp;hl=es&amp;start=1&amp;prev=/images%3Fq%3Dleones%26svnum%3D10%26hl%3Des%26lr%3D" TargetMode="External"/><Relationship Id="rId4" Type="http://schemas.openxmlformats.org/officeDocument/2006/relationships/image" Target="../media/image41.jpeg"/><Relationship Id="rId5" Type="http://schemas.openxmlformats.org/officeDocument/2006/relationships/hyperlink" Target="http://images.google.es/imgres?imgurl=http://www.estancia-villamaria.com/img/Otros%2520animales/Salvajes/antilope_salto_solo_med.jpg&amp;imgrefurl=http://www.estancia-villamaria.com/&amp;h=421&amp;w=500&amp;sz=52&amp;tbnid=mAj6Di4qyy0J:&amp;tbnh=106&amp;tbnw=127&amp;hl=es&amp;start=4&amp;prev=/images%3Fq%3Danimales%2Bsalvajes%26svnum%3D10%26hl%3Des%26lr%3D%26sa%3DN" TargetMode="External"/><Relationship Id="rId6" Type="http://schemas.openxmlformats.org/officeDocument/2006/relationships/image" Target="../media/image42.jpeg"/><Relationship Id="rId7" Type="http://schemas.openxmlformats.org/officeDocument/2006/relationships/hyperlink" Target="http://images.google.es/imgres?imgurl=http://www.biologia.org/revista/fotos/numero14/Image68.jpg&amp;imgrefurl=http://www.biologia.org/%3Fpid%3D5000%26page%3D0%26id%3D75&amp;h=1074&amp;w=1024&amp;sz=263&amp;tbnid=aVA74ocLMxIJ:&amp;tbnh=150&amp;tbnw=143&amp;hl=es&amp;start=2&amp;prev=/images%3Fq%3Dtela%2Bde%2Bara%25C3%25B1a%26svnum%3D10%26hl%3Des%26lr%3D%26sa%3DN" TargetMode="External"/><Relationship Id="rId8" Type="http://schemas.openxmlformats.org/officeDocument/2006/relationships/image" Target="../media/image43.jpeg"/><Relationship Id="rId9" Type="http://schemas.openxmlformats.org/officeDocument/2006/relationships/hyperlink" Target="http://images.google.es/imgres?imgurl=http://www.chicureo.com/Destacados/provisorio/AranaTigre_th.jpg&amp;imgrefurl=http://www.chicureo.com/Destacados/aranatigre_m.htm&amp;h=280&amp;w=200&amp;sz=8&amp;tbnid=djO_x-dfbhIJ:&amp;tbnh=109&amp;tbnw=77&amp;hl=es&amp;start=3&amp;prev=/images%3Fq%3Dara%25C3%25B1a%26svnum%3D10%26hl%3Des%26lr%3D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es/imgres?imgurl=http://redescolar.ilce.edu.mx/redescolar/publicaciones/publi_biosfera/fauna/vaca/vaca.jpg&amp;imgrefurl=http://redescolar.ilce.edu.mx/redescolar/publicaciones/publi_biosfera/fauna/vaca/vaca.htm&amp;h=245&amp;w=350&amp;sz=36&amp;tbnid=JfoOoC1PL-YJ:&amp;tbnh=81&amp;tbnw=116&amp;hl=es&amp;start=13&amp;prev=/images%3Fq%3Dvaca%26svnum%3D10%26hl%3Des%26lr%3D" TargetMode="External"/><Relationship Id="rId12" Type="http://schemas.openxmlformats.org/officeDocument/2006/relationships/image" Target="../media/image44.jpeg"/><Relationship Id="rId13" Type="http://schemas.openxmlformats.org/officeDocument/2006/relationships/hyperlink" Target="http://images.google.es/imgres?imgurl=http://www.ferplast.com/fercatal/dep/69094000.jpg&amp;imgrefurl=http://www.ferplast.com/fr/pagina_242100.html&amp;h=177&amp;w=280&amp;sz=86&amp;tbnid=0bLwSaZa2uEJ:&amp;tbnh=68&amp;tbnw=109&amp;hl=es&amp;start=20&amp;prev=/images%3Fq%3Dhierba%26svnum%3D10%26hl%3Des%26lr%3D" TargetMode="External"/><Relationship Id="rId14" Type="http://schemas.openxmlformats.org/officeDocument/2006/relationships/image" Target="../media/image45.jpe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bermudas.ls.fi.upm.es/~gonzalo/imagenes/fotos/edmonton/ciervo.jpg&amp;imgrefurl=http://bermudas.ls.fi.upm.es/~gonzalo/edmonton04.html&amp;h=768&amp;w=1024&amp;sz=293&amp;tbnid=iPYEfVAS3KEJ:&amp;tbnh=112&amp;tbnw=150&amp;hl=es&amp;start=10&amp;prev=/images%3Fq%3Dciervo%26svnum%3D10%26hl%3Des%26lr%3D%26sa%3DG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ages.google.es/imgres?imgurl=http://www.liderdigital.com/imagenes/noticias/foto2/Vida_animal-leones.jpg&amp;imgrefurl=http://www.liderdigital.com/imagenes/noticias/foto2/&amp;h=377&amp;w=250&amp;sz=65&amp;tbnid=FoYUUHLk5aQJ:&amp;tbnh=119&amp;tbnw=78&amp;hl=es&amp;start=1&amp;prev=/images%3Fq%3Dleones%26svnum%3D10%26hl%3Des%26lr%3D" TargetMode="External"/><Relationship Id="rId4" Type="http://schemas.openxmlformats.org/officeDocument/2006/relationships/image" Target="../media/image41.jpeg"/><Relationship Id="rId5" Type="http://schemas.openxmlformats.org/officeDocument/2006/relationships/hyperlink" Target="http://images.google.es/imgres?imgurl=http://www.estancia-villamaria.com/img/Otros%2520animales/Salvajes/antilope_salto_solo_med.jpg&amp;imgrefurl=http://www.estancia-villamaria.com/&amp;h=421&amp;w=500&amp;sz=52&amp;tbnid=mAj6Di4qyy0J:&amp;tbnh=106&amp;tbnw=127&amp;hl=es&amp;start=4&amp;prev=/images%3Fq%3Danimales%2Bsalvajes%26svnum%3D10%26hl%3Des%26lr%3D%26sa%3DN" TargetMode="External"/><Relationship Id="rId6" Type="http://schemas.openxmlformats.org/officeDocument/2006/relationships/image" Target="../media/image42.jpeg"/><Relationship Id="rId7" Type="http://schemas.openxmlformats.org/officeDocument/2006/relationships/hyperlink" Target="http://images.google.es/imgres?imgurl=http://www.chicureo.com/Destacados/provisorio/AranaTigre_th.jpg&amp;imgrefurl=http://www.chicureo.com/Destacados/aranatigre_m.htm&amp;h=280&amp;w=200&amp;sz=8&amp;tbnid=djO_x-dfbhIJ:&amp;tbnh=109&amp;tbnw=77&amp;hl=es&amp;start=3&amp;prev=/images%3Fq%3Dara%25C3%25B1a%26svnum%3D10%26hl%3Des%26lr%3D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es/imgres?imgurl=http://www.biologia.org/revista/fotos/numero14/Image68.jpg&amp;imgrefurl=http://www.biologia.org/%3Fpid%3D5000%26page%3D0%26id%3D75&amp;h=1074&amp;w=1024&amp;sz=263&amp;tbnid=aVA74ocLMxIJ:&amp;tbnh=150&amp;tbnw=143&amp;hl=es&amp;start=2&amp;prev=/images%3Fq%3Dtela%2Bde%2Bara%25C3%25B1a%26svnum%3D10%26hl%3Des%26lr%3D%26sa%3DN" TargetMode="External"/><Relationship Id="rId10" Type="http://schemas.openxmlformats.org/officeDocument/2006/relationships/image" Target="../media/image43.jpeg"/><Relationship Id="rId11" Type="http://schemas.openxmlformats.org/officeDocument/2006/relationships/hyperlink" Target="http://images.google.es/imgres?imgurl=http://redescolar.ilce.edu.mx/redescolar/publicaciones/publi_biosfera/fauna/vaca/vaca.jpg&amp;imgrefurl=http://redescolar.ilce.edu.mx/redescolar/publicaciones/publi_biosfera/fauna/vaca/vaca.htm&amp;h=245&amp;w=350&amp;sz=36&amp;tbnid=JfoOoC1PL-YJ:&amp;tbnh=81&amp;tbnw=116&amp;hl=es&amp;start=13&amp;prev=/images%3Fq%3Dvaca%26svnum%3D10%26hl%3Des%26lr%3D" TargetMode="External"/><Relationship Id="rId12" Type="http://schemas.openxmlformats.org/officeDocument/2006/relationships/image" Target="../media/image44.jpeg"/><Relationship Id="rId13" Type="http://schemas.openxmlformats.org/officeDocument/2006/relationships/hyperlink" Target="http://images.google.es/imgres?imgurl=http://www.ferplast.com/fercatal/dep/69094000.jpg&amp;imgrefurl=http://www.ferplast.com/fr/pagina_242100.html&amp;h=177&amp;w=280&amp;sz=86&amp;tbnid=0bLwSaZa2uEJ:&amp;tbnh=68&amp;tbnw=109&amp;hl=es&amp;start=20&amp;prev=/images%3Fq%3Dhierba%26svnum%3D10%26hl%3Des%26lr%3D" TargetMode="External"/><Relationship Id="rId14" Type="http://schemas.openxmlformats.org/officeDocument/2006/relationships/image" Target="../media/image45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inf.ufrgs.br/cg/vpat/image6.gif&amp;imgrefurl=http://www.inf.ufrgs.br/cg/vpat/vpatDescription.html&amp;h=1122&amp;w=827&amp;sz=167&amp;tbnid=Kn97Fe7EdFYJ:&amp;tbnh=150&amp;tbnw=110&amp;hl=es&amp;start=14&amp;prev=/images%3Fq%3Desqueleto%26svnum%3D10%26hl%3Des%26lr%3D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images.google.es/imgres?imgurl=http://www.alaquairum.com/imagenes/esqueleto.jpg&amp;imgrefurl=http://www.alaquairum.com/anatomia_de_los_anfibios.htm&amp;h=460&amp;w=706&amp;sz=59&amp;tbnid=ciMzTT_37w0J:&amp;tbnh=89&amp;tbnw=138&amp;hl=es&amp;start=34&amp;prev=/images%3Fq%3Desqueleto%26start%3D20%26svnum%3D10%26hl%3Des%26lr%3D%26sa%3DN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images.google.es/imgres?imgurl=http://www.icarito.cl/infografia/fauna_chilena/aves/img/esqueleto-min.jpg&amp;imgrefurl=http://www.icarito.cl/icarito/2003/902/pag4.htm&amp;h=200&amp;w=200&amp;sz=11&amp;tbnid=XjPk1ERD8d0J:&amp;tbnh=99&amp;tbnw=99&amp;hl=es&amp;start=38&amp;prev=/images%3Fq%3Desqueleto%26start%3D20%26svnum%3D10%26hl%3Des%26lr%3D%26sa%3DN" TargetMode="External"/><Relationship Id="rId6" Type="http://schemas.openxmlformats.org/officeDocument/2006/relationships/image" Target="../media/image48.jpeg"/><Relationship Id="rId7" Type="http://schemas.openxmlformats.org/officeDocument/2006/relationships/hyperlink" Target="http://images.google.es/imgres?imgurl=http://www.spanishhorses.com/osteopatia/imagenes/esqueleto.jpg&amp;imgrefurl=http://www.spanishhorses.com/osteopatia/vertebras.html&amp;h=212&amp;w=300&amp;sz=22&amp;tbnid=LqUxcFG3o1gJ:&amp;tbnh=78&amp;tbnw=111&amp;hl=es&amp;start=35&amp;prev=/images%3Fq%3Desqueleto%26start%3D20%26svnum%3D10%26hl%3Des%26lr%3D%26sa%3DN" TargetMode="External"/><Relationship Id="rId8" Type="http://schemas.openxmlformats.org/officeDocument/2006/relationships/image" Target="../media/image49.jpeg"/><Relationship Id="rId9" Type="http://schemas.openxmlformats.org/officeDocument/2006/relationships/hyperlink" Target="http://images.google.es/imgres?imgurl=http://www.scielo.org.ve/img/fbpe/imme/v40n1/art03img02.gif&amp;imgrefurl=http://www.scielo.org.ve/scielo.php%3Fpid%3DS0376-723X2002000100003%26script%3Dsci_arttext&amp;h=1380&amp;w=760&amp;sz=769&amp;tbnid=lFKNIzk1fCoJ:&amp;tbnh=150&amp;tbnw=82&amp;hl=es&amp;start=60&amp;prev=/images%3Fq%3Dhuesos%26start%3D40%26svnum%3D10%26hl%3Des%26lr%3D%26sa%3DN" TargetMode="External"/><Relationship Id="rId10" Type="http://schemas.openxmlformats.org/officeDocument/2006/relationships/image" Target="../media/image50.jpeg"/><Relationship Id="rId11" Type="http://schemas.openxmlformats.org/officeDocument/2006/relationships/hyperlink" Target="http://images.google.es/imgres?imgurl=http://www.javiercarricajo.com.ar/carricajo_huesos_web.jpg&amp;imgrefurl=http://www.javiercarricajo.com.ar/carricajo_pint_huesos.htm&amp;h=244&amp;w=322&amp;sz=15&amp;tbnid=8xIqsWnssF4J:&amp;tbnh=86&amp;tbnw=114&amp;hl=es&amp;start=42&amp;prev=/images%3Fq%3Dhuesos%26start%3D40%26svnum%3D10%26hl%3Des%26lr%3D%26sa%3DN" TargetMode="External"/><Relationship Id="rId12" Type="http://schemas.openxmlformats.org/officeDocument/2006/relationships/image" Target="../media/image51.jpeg"/><Relationship Id="rId13" Type="http://schemas.openxmlformats.org/officeDocument/2006/relationships/hyperlink" Target="http://images.google.es/imgres?imgurl=http://www.ciencia-hoy.retina.ar/hoy49/images/huesos.jpg&amp;imgrefurl=http://www.ciencia-hoy.retina.ar/hoy49/carle.htm&amp;h=151&amp;w=250&amp;sz=35&amp;tbnid=p_Ppack3I9QJ:&amp;tbnh=64&amp;tbnw=106&amp;hl=es&amp;start=23&amp;prev=/images%3Fq%3Dhuesos%26start%3D20%26svnum%3D10%26hl%3Des%26lr%3D%26sa%3DN" TargetMode="External"/><Relationship Id="rId14" Type="http://schemas.openxmlformats.org/officeDocument/2006/relationships/image" Target="../media/image52.jpe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inf.ufrgs.br/cg/vpat/image6.gif&amp;imgrefurl=http://www.inf.ufrgs.br/cg/vpat/vpatDescription.html&amp;h=1122&amp;w=827&amp;sz=167&amp;tbnid=Kn97Fe7EdFYJ:&amp;tbnh=150&amp;tbnw=110&amp;hl=es&amp;start=14&amp;prev=/images%3Fq%3Desqueleto%26svnum%3D10%26hl%3Des%26lr%3D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images.google.es/imgres?imgurl=http://www.spanishhorses.com/osteopatia/imagenes/esqueleto.jpg&amp;imgrefurl=http://www.spanishhorses.com/osteopatia/vertebras.html&amp;h=212&amp;w=300&amp;sz=22&amp;tbnid=LqUxcFG3o1gJ:&amp;tbnh=78&amp;tbnw=111&amp;hl=es&amp;start=35&amp;prev=/images%3Fq%3Desqueleto%26start%3D20%26svnum%3D10%26hl%3Des%26lr%3D%26sa%3DN" TargetMode="External"/><Relationship Id="rId4" Type="http://schemas.openxmlformats.org/officeDocument/2006/relationships/image" Target="../media/image49.jpeg"/><Relationship Id="rId5" Type="http://schemas.openxmlformats.org/officeDocument/2006/relationships/hyperlink" Target="http://images.google.es/imgres?imgurl=http://www.ciencia-hoy.retina.ar/hoy49/images/huesos.jpg&amp;imgrefurl=http://www.ciencia-hoy.retina.ar/hoy49/carle.htm&amp;h=151&amp;w=250&amp;sz=35&amp;tbnid=p_Ppack3I9QJ:&amp;tbnh=64&amp;tbnw=106&amp;hl=es&amp;start=23&amp;prev=/images%3Fq%3Dhuesos%26start%3D20%26svnum%3D10%26hl%3Des%26lr%3D%26sa%3DN" TargetMode="External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tustrucos.com/wallpapers/Animales/fondos-animales-Caballos/Caballos-Corriendo-En-Primavera.jpg&amp;imgrefurl=http://www.tustrucos.com/wallpapers/Animales/fondos-animales-Caballos/Caballos-Corriendo-En-Primavera.htm&amp;h=768&amp;w=1024&amp;sz=183&amp;tbnid=Wss4bFcVf6cJ:&amp;tbnh=112&amp;tbnw=150&amp;hl=es&amp;start=6&amp;prev=/images%3Fq%3Danimales%2Bcorriendo%26svnum%3D10%26hl%3Des%26lr%3D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google.es/imgres?imgurl=http://www.elsalvador.com/hablemos/Ediciones/111101/fotos/PECES.JPG&amp;imgrefurl=http://www.elsalvador.com/hablemos/Ediciones/111101/medioambiente.htm&amp;h=228&amp;w=190&amp;sz=17&amp;tbnid=rER6JQbS_xEJ:&amp;tbnh=103&amp;tbnw=85&amp;hl=es&amp;start=10&amp;prev=/images%3Fq%3Dpeces%26svnum%3D10%26hl%3Des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es/imgres?imgurl=http://www.chicureo.com/Destacados/provisorio/AranaTigre_th.jpg&amp;imgrefurl=http://www.chicureo.com/Destacados/aranatigre_m.htm&amp;h=280&amp;w=200&amp;sz=8&amp;tbnid=djO_x-dfbhIJ:&amp;tbnh=109&amp;tbnw=77&amp;hl=es&amp;start=3&amp;prev=/images%3Fq%3Dara%25C3%25B1a%26svnum%3D10%26hl%3Des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12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iespana.es/aquafish/images/peces/marina_fria/f-estrella_mar.jpg&amp;imgrefurl=http://www.iespana.es/aquafish/peces/marina_fria/estrella_mar.htm&amp;h=293&amp;w=473&amp;sz=203&amp;tbnid=Kra4O_LMyw0J:&amp;tbnh=78&amp;tbnw=126&amp;hl=es&amp;start=1&amp;prev=/images%3Fq%3Destrella%2Bde%2Bmar%26svnum%3D10%26hl%3Des%26lr%3D%26sa%3D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es/imgres?imgurl=http://www.vionline.com/pix/gallery/peces.jpg&amp;imgrefurl=http://www.vionline.com/main/gallery.html&amp;h=480&amp;w=640&amp;sz=106&amp;tbnid=9t_k8EgYEhQJ:&amp;tbnh=101&amp;tbnw=135&amp;hl=es&amp;start=5&amp;prev=/images%3Fq%3Dpeces%26svnum%3D10%26hl%3Des%26lr%3D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es/imgres?imgurl=http://www.palermonline.com.ar/noticias/imagenes_news/leones.jpg&amp;imgrefurl=http://www.palermonline.com.ar/noticias/nota348_zoo_historia.htm&amp;h=300&amp;w=227&amp;sz=12&amp;tbnid=oQjmxzUDIAcJ:&amp;tbnh=111&amp;tbnw=83&amp;hl=es&amp;start=7&amp;prev=/images%3Fq%3Dleones%26svnum%3D10%26hl%3Des%26lr%3D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es/imgres?imgurl=http://www.fotonatura.org/miembros/fotos/usr8785/Cebra_grande.jpg&amp;imgrefurl=http://www.fotonatura.org/galerias/foto.php%3Fid_foto%3D78577%26id_galeria%3D4445&amp;h=600&amp;w=399&amp;sz=85&amp;tbnid=OTeDWg8vY-MJ:&amp;tbnh=133&amp;tbnw=88&amp;hl=es&amp;start=12&amp;prev=/images%3Fq%3Dcebra%26svnum%3D10%26hl%3Des%26lr%3D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concienciasinfronteras.com/IMAGEN/chimpance.jpg&amp;imgrefurl=http://www.concienciasinfronteras.com/PAGINAS/CONCIENCIA/cieloytierra.html&amp;h=292&amp;w=250&amp;sz=4&amp;tbnid=8vqBMcXBvlkJ:&amp;tbnh=111&amp;tbnw=95&amp;hl=es&amp;start=2&amp;prev=/images%3Fq%3Dchimpanc%25C3%25A9%26svnum%3D10%26hl%3Des%26lr%3D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es/imgres?imgurl=http://www.historiaviva.org/galeria_gc/desde_pozo-nieves-canonigos_arco-roca.jpg&amp;imgrefurl=http://www.historiaviva.org/galeria_gc/index2.shtml&amp;h=375&amp;w=500&amp;sz=47&amp;tbnid=CFs7NnMQdA0J:&amp;tbnh=95&amp;tbnw=127&amp;hl=es&amp;start=5&amp;prev=/images%3Fq%3Droca%26svnum%3D10%26hl%3Des%26lr%3D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es/imgres?imgurl=http://www.asb.com.ar/Vegetales/Arbol.jpg&amp;imgrefurl=http://www.asb.com.ar/Vegetales.html&amp;h=255&amp;w=394&amp;sz=51&amp;tbnid=M03XOuwPCKQJ:&amp;tbnh=77&amp;tbnw=120&amp;hl=es&amp;start=6&amp;prev=/images%3Fq%3Darbol%26svnum%3D10%26hl%3Des%26lr%3D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es/imgres?imgurl=http://shoppingba.infobae.com/infofitness/adjuntos/notas/03/0000397.jpg&amp;imgrefurl=http://shoppingba.infobae.com/infofitness/home/nota_detalle.php%3Fidxnota%3D397%26idxrubro%3D10&amp;h=169&amp;w=143&amp;sz=7&amp;tbnid=NSsjUteIc1gJ:&amp;tbnh=94&amp;tbnw=79&amp;hl=es&amp;start=4&amp;prev=/images%3Fq%3Dalimentarse%26svnum%3D10%26hl%3Des%26lr%3D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images.google.es/imgres?imgurl=http://www.analyzing-weight-loss.com/walking.jpg&amp;imgrefurl=http://www.analyzing-weight-loss.com/nihongo/exercise-ideas.html&amp;h=200&amp;w=150&amp;sz=7&amp;tbnid=nZgKAvdeX8EJ:&amp;tbnh=99&amp;tbnw=74&amp;hl=es&amp;start=5&amp;prev=/images%3Fq%3Dcaminar%26svnum%3D10%26hl%3Des%26lr%3D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google.es/imgres?imgurl=http://www.es.airliquide.com/images/sectores-fotos/sa-agro-aliment.jpg&amp;imgrefurl=http://www.es.airliquide.com/sa_agro.htm&amp;h=144&amp;w=175&amp;sz=9&amp;tbnid=D--5iTRN808J:&amp;tbnh=78&amp;tbnw=95&amp;hl=es&amp;start=5&amp;prev=/images%3Fq%3Daliment%26svnum%3D10%26hl%3Des%26lr%3D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images.google.es/imgres?imgurl=http://webs.demasiado.com/mapaz/delfin.jpg&amp;imgrefurl=http://webs.demasiado.com/mapaz/paginape.html&amp;h=244&amp;w=300&amp;sz=33&amp;tbnid=mXImUBug734J:&amp;tbnh=90&amp;tbnw=111&amp;hl=es&amp;start=3&amp;prev=/images%3Fq%3Ddelfin%26svnum%3D10%26hl%3Des%26lr%3D" TargetMode="External"/><Relationship Id="rId14" Type="http://schemas.openxmlformats.org/officeDocument/2006/relationships/image" Target="../media/image25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chicureo.com/Destacados/provisorio/AranaTigre_th.jpg&amp;imgrefurl=http://www.chicureo.com/Destacados/aranatigre_m.htm&amp;h=280&amp;w=200&amp;sz=8&amp;tbnid=djO_x-dfbhIJ:&amp;tbnh=109&amp;tbnw=77&amp;hl=es&amp;start=3&amp;prev=/images%3Fq%3Dara%25C3%25B1a%26svnum%3D10%26hl%3Des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es/imgres?imgurl=http://www.parks.it/parco.po.to/foto/Rana.Verde-800.jpg&amp;imgrefurl=http://www.parks.it/parco.po.to/par-info.html&amp;h=600&amp;w=800&amp;sz=102&amp;tbnid=natTt9PglisJ:&amp;tbnh=106&amp;tbnw=142&amp;hl=es&amp;start=3&amp;prev=/images%3Fq%3Drana%26svnum%3D10%26hl%3Des%26lr%3D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es/imgres?imgurl=http://www.elsalvador.com/hablemos/Ediciones/111101/fotos/PECES.JPG&amp;imgrefurl=http://www.elsalvador.com/hablemos/Ediciones/111101/medioambiente.htm&amp;h=228&amp;w=190&amp;sz=17&amp;tbnid=rER6JQbS_xEJ:&amp;tbnh=103&amp;tbnw=85&amp;hl=es&amp;start=10&amp;prev=/images%3Fq%3Dpeces%26svnum%3D10%26hl%3Des%26lr%3D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es/imgres?imgurl=http://www.tustrucos.com/wallpapers/Animales/fondos-animales-Caballos/Caballos-Corriendo-En-Primavera.jpg&amp;imgrefurl=http://www.tustrucos.com/wallpapers/Animales/fondos-animales-Caballos/Caballos-Corriendo-En-Primavera.htm&amp;h=768&amp;w=1024&amp;sz=183&amp;tbnid=Wss4bFcVf6cJ:&amp;tbnh=112&amp;tbnw=150&amp;hl=es&amp;start=6&amp;prev=/images%3Fq%3Danimales%2Bcorriendo%26svnum%3D10%26hl%3Des%26lr%3D" TargetMode="External"/><Relationship Id="rId8" Type="http://schemas.openxmlformats.org/officeDocument/2006/relationships/image" Target="../media/image26.jpeg"/><Relationship Id="rId9" Type="http://schemas.openxmlformats.org/officeDocument/2006/relationships/hyperlink" Target="http://images.google.es/imgres?imgurl=http://bosquesanpatricio.homestead.com/files/gusano-g.jpg&amp;imgrefurl=http://www.lesclat.com/modules.php%3Fname%3DNews%26file%3Darticle%26sid%3D559&amp;h=392&amp;w=600&amp;sz=23&amp;tbnid=3EfBVDp530QJ:&amp;tbnh=86&amp;tbnw=133&amp;hl=es&amp;start=1&amp;prev=/images%3Fq%3Dgusano%26svnum%3D10%26hl%3Des%26lr%3D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chicureo.com/Destacados/provisorio/AranaTigre_th.jpg&amp;imgrefurl=http://www.chicureo.com/Destacados/aranatigre_m.htm&amp;h=280&amp;w=200&amp;sz=8&amp;tbnid=djO_x-dfbhIJ:&amp;tbnh=109&amp;tbnw=77&amp;hl=es&amp;start=3&amp;prev=/images%3Fq%3Dara%25C3%25B1a%26svnum%3D10%26hl%3Des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es/imgres?imgurl=http://www.parks.it/parco.po.to/foto/Rana.Verde-800.jpg&amp;imgrefurl=http://www.parks.it/parco.po.to/par-info.html&amp;h=600&amp;w=800&amp;sz=102&amp;tbnid=natTt9PglisJ:&amp;tbnh=106&amp;tbnw=142&amp;hl=es&amp;start=3&amp;prev=/images%3Fq%3Drana%26svnum%3D10%26hl%3Des%26lr%3D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es/imgres?imgurl=http://www.elsalvador.com/hablemos/Ediciones/111101/fotos/PECES.JPG&amp;imgrefurl=http://www.elsalvador.com/hablemos/Ediciones/111101/medioambiente.htm&amp;h=228&amp;w=190&amp;sz=17&amp;tbnid=rER6JQbS_xEJ:&amp;tbnh=103&amp;tbnw=85&amp;hl=es&amp;start=10&amp;prev=/images%3Fq%3Dpeces%26svnum%3D10%26hl%3Des%26lr%3D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es/imgres?imgurl=http://www.tustrucos.com/wallpapers/Animales/fondos-animales-Caballos/Caballos-Corriendo-En-Primavera.jpg&amp;imgrefurl=http://www.tustrucos.com/wallpapers/Animales/fondos-animales-Caballos/Caballos-Corriendo-En-Primavera.htm&amp;h=768&amp;w=1024&amp;sz=183&amp;tbnid=Wss4bFcVf6cJ:&amp;tbnh=112&amp;tbnw=150&amp;hl=es&amp;start=6&amp;prev=/images%3Fq%3Danimales%2Bcorriendo%26svnum%3D10%26hl%3Des%26lr%3D" TargetMode="External"/><Relationship Id="rId8" Type="http://schemas.openxmlformats.org/officeDocument/2006/relationships/image" Target="../media/image26.jpeg"/><Relationship Id="rId9" Type="http://schemas.openxmlformats.org/officeDocument/2006/relationships/hyperlink" Target="http://images.google.es/imgres?imgurl=http://bosquesanpatricio.homestead.com/files/gusano-g.jpg&amp;imgrefurl=http://www.lesclat.com/modules.php%3Fname%3DNews%26file%3Darticle%26sid%3D559&amp;h=392&amp;w=600&amp;sz=23&amp;tbnid=3EfBVDp530QJ:&amp;tbnh=86&amp;tbnw=133&amp;hl=es&amp;start=1&amp;prev=/images%3Fq%3Dgusano%26svnum%3D10%26hl%3Des%26lr%3D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usuarios.tiscali.es/monthegreat/Aparato%2520Circulatorio.gif&amp;imgrefurl=http://usuarios.tiscali.es/monthegreat/sistema_cadiocirculatorio.htm&amp;h=626&amp;w=400&amp;sz=44&amp;tbnid=Mg46xIzAgeQJ:&amp;tbnh=134&amp;tbnw=85&amp;hl=es&amp;start=1&amp;prev=/images%3Fq%3Daparato%2Bcirculatorio%26svnum%3D10%26hl%3Des%26lr%3D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google.es/imgres?imgurl=http://www.ctv.es/USERS/sos/images/esquel.gif&amp;imgrefurl=http://www.ctv.es/USERS/sos/aparloco.htm&amp;h=401&amp;w=250&amp;sz=5&amp;tbnid=CzWw-9Lhzu0J:&amp;tbnh=120&amp;tbnw=74&amp;hl=es&amp;start=2&amp;prev=/images%3Fq%3Daparato%2Blocomotor%26svnum%3D10%26hl%3Des%26lr%3D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images.google.es/imgres?imgurl=http://www.santillana.es/proyectosEnRed/secunda/imagenes/digestivo.gif&amp;imgrefurl=http://www.santillana.es/proyectosEnRed/secunda/html2/cie3/05_1.htm&amp;h=353&amp;w=262&amp;sz=21&amp;tbnid=xp8urSOZ0s4J:&amp;tbnh=116&amp;tbnw=86&amp;hl=es&amp;start=10&amp;prev=/images%3Fq%3Daparato%2Bdigestivo%26svnum%3D10%26hl%3Des%26lr%3D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images.google.es/imgres?imgurl=http://www.omerique.net/twiki/pub/Recursos/AparatoRespiratorio/respigr.gif&amp;imgrefurl=http://www.omerique.net/twiki/pub/Recursos/AparatoRespiratorio/aparatorespiratorio.html&amp;h=441&amp;w=640&amp;sz=62&amp;tbnid=lVK5QbZfMmIJ:&amp;tbnh=93&amp;tbnw=135&amp;hl=es&amp;start=1&amp;prev=/images%3Fq%3Daparatorespiratorio%26svnum%3D10%26hl%3Des%26lr%3D" TargetMode="External"/><Relationship Id="rId8" Type="http://schemas.openxmlformats.org/officeDocument/2006/relationships/image" Target="../media/image30.jpeg"/><Relationship Id="rId9" Type="http://schemas.openxmlformats.org/officeDocument/2006/relationships/hyperlink" Target="http://images.google.es/imgres?imgurl=http://usuarios.tiscali.es/monthegreat/CEREBRO1.gif&amp;imgrefurl=http://usuarios.tiscali.es/monthegreat/sistema_nervioso.htm&amp;h=255&amp;w=248&amp;sz=6&amp;tbnid=oKxddJ7F2PIJ:&amp;tbnh=106&amp;tbnw=103&amp;hl=es&amp;start=9&amp;prev=/images%3Fq%3Dsistema%2Bnervioso%26svnum%3D10%26hl%3Des%26lr%3D" TargetMode="External"/><Relationship Id="rId10" Type="http://schemas.openxmlformats.org/officeDocument/2006/relationships/image" Target="../media/image31.jpeg"/><Relationship Id="rId11" Type="http://schemas.openxmlformats.org/officeDocument/2006/relationships/hyperlink" Target="http://images.google.es/imgres?imgurl=http://www.psicologia-online.com/ebooks/general/imagenes/brainmedialcolor.gif&amp;imgrefurl=http://www.psicologia-online.com/ebooks/general/sncentral.htm&amp;h=350&amp;w=550&amp;sz=12&amp;tbnid=OpYPmxEiN3MJ:&amp;tbnh=82&amp;tbnw=130&amp;hl=es&amp;start=7&amp;prev=/images%3Fq%3Dsistema%2Bnervioso%26svnum%3D10%26hl%3Des%26lr%3D" TargetMode="External"/><Relationship Id="rId12" Type="http://schemas.openxmlformats.org/officeDocument/2006/relationships/image" Target="../media/image32.jpeg"/><Relationship Id="rId13" Type="http://schemas.openxmlformats.org/officeDocument/2006/relationships/hyperlink" Target="http://images.google.es/imgres?imgurl=http://www.salonhogar.com/ciencias/biologia/sentidos/vista.9.jpg&amp;imgrefurl=http://www.salonhogar.com/ciencias/biologia/sentidos/vista.htm&amp;h=270&amp;w=198&amp;sz=13&amp;tbnid=Czy0OX1QTUsJ:&amp;tbnh=108&amp;tbnw=79&amp;hl=es&amp;start=1&amp;prev=/images%3Fq%3Dsentidos%2Bvista%26svnum%3D10%26hl%3Des%26lr%3D" TargetMode="External"/><Relationship Id="rId14" Type="http://schemas.openxmlformats.org/officeDocument/2006/relationships/image" Target="../media/image33.jpeg"/><Relationship Id="rId15" Type="http://schemas.openxmlformats.org/officeDocument/2006/relationships/hyperlink" Target="http://images.google.es/imgres?imgurl=http://www.aldeaeducativa.com/small/sentido1.jpg&amp;imgrefurl=http://www.aldeaeducativa.com/aldea/Biograf2.asp%3FWhich1%3D362&amp;h=150&amp;w=150&amp;sz=8&amp;tbnid=I3hyT-G4ZXgJ:&amp;tbnh=90&amp;tbnw=90&amp;hl=es&amp;start=10&amp;prev=/images%3Fq%3Dsentidos%2Boido%26svnum%3D10%26hl%3Des%26lr%3D" TargetMode="External"/><Relationship Id="rId16" Type="http://schemas.openxmlformats.org/officeDocument/2006/relationships/image" Target="../media/image34.jpeg"/><Relationship Id="rId17" Type="http://schemas.openxmlformats.org/officeDocument/2006/relationships/hyperlink" Target="http://images.google.es/imgres?imgurl=http://www.saudevidaonline.com.br/imagens/olfato.gif&amp;imgrefurl=http://www.saudevidaonline.com.br/sentidos.htm&amp;h=197&amp;w=150&amp;sz=15&amp;tbnid=pKZMkJG9qZkJ:&amp;tbnh=98&amp;tbnw=74&amp;hl=es&amp;start=18&amp;prev=/images%3Fq%3Dsentidos%2Bolfato%26svnum%3D10%26hl%3Des%26lr%3D" TargetMode="External"/><Relationship Id="rId18" Type="http://schemas.openxmlformats.org/officeDocument/2006/relationships/image" Target="../media/image35.jpeg"/><Relationship Id="rId19" Type="http://schemas.openxmlformats.org/officeDocument/2006/relationships/hyperlink" Target="http://images.google.es/imgres?imgurl=http://www.harcourtschool.com/glossary/science/images/gr1/senses1.jpg&amp;imgrefurl=http://www.harcourtschool.com/glossary/science/define/gr1/senses1a.html&amp;h=109&amp;w=380&amp;sz=17&amp;tbnid=MH75bEzStfMJ:&amp;tbnh=34&amp;tbnw=119&amp;hl=es&amp;start=42&amp;prev=/images%3Fq%3Dsentidos%2Btacto%26start%3D40%26svnum%3D10%26hl%3Des%26lr%3D%26sa%3DN" TargetMode="External"/><Relationship Id="rId20" Type="http://schemas.openxmlformats.org/officeDocument/2006/relationships/image" Target="../media/image36.jpeg"/><Relationship Id="rId21" Type="http://schemas.openxmlformats.org/officeDocument/2006/relationships/hyperlink" Target="http://images.google.es/imgres?imgurl=http://www.formikaio.it/mano.gif&amp;imgrefurl=http://www.formikaio.it/mano.php&amp;h=361&amp;w=319&amp;sz=35&amp;tbnid=EFGI3XACd-oJ:&amp;tbnh=117&amp;tbnw=103&amp;hl=es&amp;start=2&amp;prev=/images%3Fq%3Dmano%26svnum%3D10%26hl%3Des%26lr%3D" TargetMode="External"/><Relationship Id="rId22" Type="http://schemas.openxmlformats.org/officeDocument/2006/relationships/image" Target="../media/image37.jpeg"/><Relationship Id="rId23" Type="http://schemas.openxmlformats.org/officeDocument/2006/relationships/hyperlink" Target="http://images.google.es/imgres?imgurl=http://www.nlm.nih.gov/medlineplus/spanish/ency/images/ency/fullsize/8686.jpg&amp;imgrefurl=http://www.nlm.nih.gov/medlineplus/spanish/ency/esp_imagepages/8686.htm&amp;h=320&amp;w=400&amp;sz=15&amp;tbnid=TO5Ifydx0gQJ:&amp;tbnh=96&amp;tbnw=120&amp;hl=es&amp;start=2&amp;prev=/images%3Fq%3Dlengua%26svnum%3D10%26hl%3Des%26lr%3D" TargetMode="External"/><Relationship Id="rId24" Type="http://schemas.openxmlformats.org/officeDocument/2006/relationships/image" Target="../media/image38.jpeg"/><Relationship Id="rId25" Type="http://schemas.openxmlformats.org/officeDocument/2006/relationships/hyperlink" Target="http://images.google.es/imgres?imgurl=http://html.rincondelvago.com/files/5/3/8/000265380.png&amp;imgrefurl=http://html.rincondelvago.com/aparell-excretor_aparato-excretor_1.html&amp;h=301&amp;w=292&amp;sz=5&amp;tbnid=wNgzGo5HY6AJ:&amp;tbnh=112&amp;tbnw=108&amp;hl=es&amp;start=2&amp;prev=/images%3Fq%3Daparato%2Bexcretor%26svnum%3D10%26hl%3Des%26lr%3D" TargetMode="External"/><Relationship Id="rId26" Type="http://schemas.openxmlformats.org/officeDocument/2006/relationships/image" Target="../media/image39.jpeg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omerique.net/twiki/pub/Recursos/AparatoRespiratorio/respigr.gif&amp;imgrefurl=http://www.omerique.net/twiki/pub/Recursos/AparatoRespiratorio/aparatorespiratorio.html&amp;h=441&amp;w=640&amp;sz=62&amp;tbnid=lVK5QbZfMmIJ:&amp;tbnh=93&amp;tbnw=135&amp;hl=es&amp;start=1&amp;prev=/images%3Fq%3Daparatorespiratorio%26svnum%3D10%26hl%3Des%26lr%3D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es/imgres?imgurl=http://html.rincondelvago.com/files/5/3/8/000265380.png&amp;imgrefurl=http://html.rincondelvago.com/aparell-excretor_aparato-excretor_1.html&amp;h=301&amp;w=292&amp;sz=5&amp;tbnid=wNgzGo5HY6AJ:&amp;tbnh=112&amp;tbnw=108&amp;hl=es&amp;start=2&amp;prev=/images%3Fq%3Daparato%2Bexcretor%26svnum%3D10%26hl%3Des%26lr%3D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google.es/imgres?imgurl=http://www.santillana.es/proyectosEnRed/secunda/imagenes/digestivo.gif&amp;imgrefurl=http://www.santillana.es/proyectosEnRed/secunda/html2/cie3/05_1.htm&amp;h=353&amp;w=262&amp;sz=21&amp;tbnid=xp8urSOZ0s4J:&amp;tbnh=116&amp;tbnw=86&amp;hl=es&amp;start=10&amp;prev=/images%3Fq%3Daparato%2Bdigestivo%26svnum%3D10%26hl%3Des%26lr%3D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images.google.es/imgres?imgurl=http://www.ctv.es/USERS/sos/images/esquel.gif&amp;imgrefurl=http://www.ctv.es/USERS/sos/aparloco.htm&amp;h=401&amp;w=250&amp;sz=5&amp;tbnid=CzWw-9Lhzu0J:&amp;tbnh=120&amp;tbnw=74&amp;hl=es&amp;start=2&amp;prev=/images%3Fq%3Daparato%2Blocomotor%26svnum%3D10%26hl%3Des%26lr%3D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images.google.es/imgres?imgurl=http://usuarios.tiscali.es/monthegreat/Aparato%2520Circulatorio.gif&amp;imgrefurl=http://usuarios.tiscali.es/monthegreat/sistema_cadiocirculatorio.htm&amp;h=626&amp;w=400&amp;sz=44&amp;tbnid=Mg46xIzAgeQJ:&amp;tbnh=134&amp;tbnw=85&amp;hl=es&amp;start=1&amp;prev=/images%3Fq%3Daparato%2Bcirculatorio%26svnum%3D10%26hl%3Des%26lr%3D" TargetMode="External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2a3d7a"/>
                </a:solidFill>
                <a:latin typeface="Times New Roman"/>
              </a:rPr>
              <a:t>Unitat 4     </a:t>
            </a:r>
            <a:r>
              <a:rPr b="0" i="1" lang="ca-ES" sz="4400" spc="-1" strike="noStrike">
                <a:solidFill>
                  <a:srgbClr val="2a3d7a"/>
                </a:solidFill>
                <a:latin typeface="Times New Roman"/>
              </a:rPr>
              <a:t>Els anim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133720"/>
            <a:ext cx="1768320" cy="1130040"/>
          </a:xfrm>
          <a:prstGeom prst="rect">
            <a:avLst/>
          </a:prstGeom>
          <a:ln w="0">
            <a:noFill/>
          </a:ln>
        </p:spPr>
      </p:pic>
      <p:pic>
        <p:nvPicPr>
          <p:cNvPr id="92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057400"/>
            <a:ext cx="879480" cy="1246320"/>
          </a:xfrm>
          <a:prstGeom prst="rect">
            <a:avLst/>
          </a:prstGeom>
          <a:ln w="0">
            <a:noFill/>
          </a:ln>
        </p:spPr>
      </p:pic>
      <p:pic>
        <p:nvPicPr>
          <p:cNvPr id="93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1447920"/>
            <a:ext cx="1268280" cy="126828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05520" y="2590920"/>
            <a:ext cx="1600200" cy="1187280"/>
          </a:xfrm>
          <a:prstGeom prst="rect">
            <a:avLst/>
          </a:prstGeom>
          <a:ln w="0">
            <a:noFill/>
          </a:ln>
        </p:spPr>
      </p:pic>
      <p:pic>
        <p:nvPicPr>
          <p:cNvPr id="95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8880" y="2971800"/>
            <a:ext cx="1257480" cy="1523880"/>
          </a:xfrm>
          <a:prstGeom prst="rect">
            <a:avLst/>
          </a:prstGeom>
          <a:ln w="0">
            <a:noFill/>
          </a:ln>
        </p:spPr>
      </p:pic>
      <p:pic>
        <p:nvPicPr>
          <p:cNvPr id="96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066680" y="3581280"/>
            <a:ext cx="1371600" cy="909720"/>
          </a:xfrm>
          <a:prstGeom prst="rect">
            <a:avLst/>
          </a:prstGeom>
          <a:ln w="0">
            <a:noFill/>
          </a:ln>
        </p:spPr>
      </p:pic>
      <p:pic>
        <p:nvPicPr>
          <p:cNvPr id="97" name="images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010280" y="4724280"/>
            <a:ext cx="1303560" cy="1752840"/>
          </a:xfrm>
          <a:prstGeom prst="rect">
            <a:avLst/>
          </a:prstGeom>
          <a:ln w="0">
            <a:noFill/>
          </a:ln>
        </p:spPr>
      </p:pic>
      <p:pic>
        <p:nvPicPr>
          <p:cNvPr id="98" name="images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124080" y="5562720"/>
            <a:ext cx="1295640" cy="836640"/>
          </a:xfrm>
          <a:prstGeom prst="rect">
            <a:avLst/>
          </a:prstGeom>
          <a:ln w="0">
            <a:noFill/>
          </a:ln>
        </p:spPr>
      </p:pic>
      <p:pic>
        <p:nvPicPr>
          <p:cNvPr id="99" name="images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105520" y="4648320"/>
            <a:ext cx="1371600" cy="1023840"/>
          </a:xfrm>
          <a:prstGeom prst="rect">
            <a:avLst/>
          </a:prstGeom>
          <a:ln w="0">
            <a:noFill/>
          </a:ln>
        </p:spPr>
      </p:pic>
      <p:pic>
        <p:nvPicPr>
          <p:cNvPr id="100" name="images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124080" y="3886200"/>
            <a:ext cx="1165320" cy="1039680"/>
          </a:xfrm>
          <a:prstGeom prst="rect">
            <a:avLst/>
          </a:prstGeom>
          <a:ln w="0">
            <a:noFill/>
          </a:ln>
        </p:spPr>
      </p:pic>
      <p:pic>
        <p:nvPicPr>
          <p:cNvPr id="101" name="images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219320" y="510552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436120" y="144792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Anomena els 5 sentit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9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362320"/>
            <a:ext cx="3200400" cy="915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62320" y="3505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2      3       4      5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4267080"/>
            <a:ext cx="5333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1.- .......................</a:t>
            </a: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2.-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3.-........................</a:t>
            </a: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4.-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5.-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905120" y="1676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El cérvol menja herb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2971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El lleó menja car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219320"/>
            <a:ext cx="1714680" cy="1279440"/>
          </a:xfrm>
          <a:prstGeom prst="rect">
            <a:avLst/>
          </a:prstGeom>
          <a:ln w="0">
            <a:noFill/>
          </a:ln>
        </p:spPr>
      </p:pic>
      <p:pic>
        <p:nvPicPr>
          <p:cNvPr id="235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1981080"/>
            <a:ext cx="892080" cy="1360440"/>
          </a:xfrm>
          <a:prstGeom prst="rect">
            <a:avLst/>
          </a:prstGeom>
          <a:ln w="0">
            <a:noFill/>
          </a:ln>
        </p:spPr>
      </p:pic>
      <p:pic>
        <p:nvPicPr>
          <p:cNvPr id="236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3200400"/>
            <a:ext cx="1451160" cy="1211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522080" y="348156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L’aranya busca alimen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8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0" y="3886200"/>
            <a:ext cx="1017720" cy="1066680"/>
          </a:xfrm>
          <a:prstGeom prst="rect">
            <a:avLst/>
          </a:prstGeom>
          <a:ln w="0">
            <a:noFill/>
          </a:ln>
        </p:spPr>
      </p:pic>
      <p:pic>
        <p:nvPicPr>
          <p:cNvPr id="239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371600" y="4114800"/>
            <a:ext cx="879480" cy="12463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579120" y="54100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La vaca menja herb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1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791320" y="5029200"/>
            <a:ext cx="1325520" cy="925560"/>
          </a:xfrm>
          <a:prstGeom prst="rect">
            <a:avLst/>
          </a:prstGeom>
          <a:ln w="0">
            <a:noFill/>
          </a:ln>
        </p:spPr>
      </p:pic>
      <p:pic>
        <p:nvPicPr>
          <p:cNvPr id="242" name="images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934320" y="5715000"/>
            <a:ext cx="1245960" cy="77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676520" y="1295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b5249"/>
                </a:solidFill>
                <a:latin typeface="Times New Roman"/>
              </a:rPr>
              <a:t>Escriu què fan aquests animal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981080"/>
            <a:ext cx="914400" cy="682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209680" y="21337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2743200"/>
            <a:ext cx="549360" cy="838080"/>
          </a:xfrm>
          <a:prstGeom prst="rect">
            <a:avLst/>
          </a:prstGeom>
          <a:ln w="0">
            <a:noFill/>
          </a:ln>
        </p:spPr>
      </p:pic>
      <p:pic>
        <p:nvPicPr>
          <p:cNvPr id="247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3429000"/>
            <a:ext cx="762120" cy="636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19112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9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4648320"/>
            <a:ext cx="43020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23880" y="4267080"/>
            <a:ext cx="436680" cy="457200"/>
          </a:xfrm>
          <a:prstGeom prst="rect">
            <a:avLst/>
          </a:prstGeom>
          <a:ln w="0">
            <a:noFill/>
          </a:ln>
        </p:spPr>
      </p:pic>
      <p:pic>
        <p:nvPicPr>
          <p:cNvPr id="251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19520" y="5410080"/>
            <a:ext cx="914400" cy="638280"/>
          </a:xfrm>
          <a:prstGeom prst="rect">
            <a:avLst/>
          </a:prstGeom>
          <a:ln w="0">
            <a:noFill/>
          </a:ln>
        </p:spPr>
      </p:pic>
      <p:pic>
        <p:nvPicPr>
          <p:cNvPr id="252" name="images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809880" y="5943600"/>
            <a:ext cx="762120" cy="476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133720" y="4572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5486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38080" y="17524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Els animals tenen </a:t>
            </a:r>
            <a:r>
              <a:rPr b="1" lang="ca-ES" sz="1600" spc="-1" strike="noStrike">
                <a:solidFill>
                  <a:srgbClr val="5b5249"/>
                </a:solidFill>
                <a:latin typeface="Times New Roman"/>
              </a:rPr>
              <a:t>aparell locomotor</a:t>
            </a: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 per desplaçar-se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743200"/>
            <a:ext cx="1257120" cy="1714680"/>
          </a:xfrm>
          <a:prstGeom prst="rect">
            <a:avLst/>
          </a:prstGeom>
          <a:ln w="0">
            <a:noFill/>
          </a:ln>
        </p:spPr>
      </p:pic>
      <p:pic>
        <p:nvPicPr>
          <p:cNvPr id="25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2514600"/>
            <a:ext cx="1577880" cy="1017720"/>
          </a:xfrm>
          <a:prstGeom prst="rect">
            <a:avLst/>
          </a:prstGeom>
          <a:ln w="0">
            <a:noFill/>
          </a:ln>
        </p:spPr>
      </p:pic>
      <p:pic>
        <p:nvPicPr>
          <p:cNvPr id="258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4876920"/>
            <a:ext cx="1131840" cy="1131840"/>
          </a:xfrm>
          <a:prstGeom prst="rect">
            <a:avLst/>
          </a:prstGeom>
          <a:ln w="0">
            <a:noFill/>
          </a:ln>
        </p:spPr>
      </p:pic>
      <p:pic>
        <p:nvPicPr>
          <p:cNvPr id="259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3657600"/>
            <a:ext cx="1600200" cy="1125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162920" y="51055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5b5249"/>
                </a:solidFill>
                <a:latin typeface="Times New Roman"/>
              </a:rPr>
              <a:t>Esquele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1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219320" y="4114800"/>
            <a:ext cx="936360" cy="1714680"/>
          </a:xfrm>
          <a:prstGeom prst="rect">
            <a:avLst/>
          </a:prstGeom>
          <a:ln w="0">
            <a:noFill/>
          </a:ln>
        </p:spPr>
      </p:pic>
      <p:pic>
        <p:nvPicPr>
          <p:cNvPr id="262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62320" y="3809880"/>
            <a:ext cx="1303200" cy="982800"/>
          </a:xfrm>
          <a:prstGeom prst="rect">
            <a:avLst/>
          </a:prstGeom>
          <a:ln w="0">
            <a:noFill/>
          </a:ln>
        </p:spPr>
      </p:pic>
      <p:pic>
        <p:nvPicPr>
          <p:cNvPr id="263" name="images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429000" y="4952880"/>
            <a:ext cx="1211400" cy="731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133720" y="62485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5b5249"/>
                </a:solidFill>
                <a:latin typeface="Times New Roman"/>
              </a:rPr>
              <a:t>Ósso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48120" y="106668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Busca al </a:t>
            </a:r>
            <a:r>
              <a:rPr b="1" lang="ca-ES" sz="1800" spc="-1" strike="noStrike">
                <a:solidFill>
                  <a:srgbClr val="5b5249"/>
                </a:solidFill>
                <a:latin typeface="Times New Roman"/>
              </a:rPr>
              <a:t>diccionari</a:t>
            </a: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 les següents paraules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0" i="1" lang="ca-ES" sz="1800" spc="-1" strike="noStrike">
                <a:solidFill>
                  <a:srgbClr val="5b5249"/>
                </a:solidFill>
                <a:latin typeface="Times New Roman"/>
              </a:rPr>
              <a:t>Pels alumnes xinesos o pels alumnes de segona llengua anglesa</a:t>
            </a: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21337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Aparell locomotor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37339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Esquelet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5181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Óssos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9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43828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270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267080"/>
            <a:ext cx="1067040" cy="750960"/>
          </a:xfrm>
          <a:prstGeom prst="rect">
            <a:avLst/>
          </a:prstGeom>
          <a:ln w="0">
            <a:noFill/>
          </a:ln>
        </p:spPr>
      </p:pic>
      <p:pic>
        <p:nvPicPr>
          <p:cNvPr id="271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5715000"/>
            <a:ext cx="838440" cy="50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4038480"/>
            <a:ext cx="1067040" cy="797040"/>
          </a:xfrm>
          <a:prstGeom prst="rect">
            <a:avLst/>
          </a:prstGeom>
          <a:ln w="0">
            <a:noFill/>
          </a:ln>
        </p:spPr>
      </p:pic>
      <p:pic>
        <p:nvPicPr>
          <p:cNvPr id="273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4876920"/>
            <a:ext cx="628560" cy="761760"/>
          </a:xfrm>
          <a:prstGeom prst="rect">
            <a:avLst/>
          </a:prstGeom>
          <a:ln w="0">
            <a:noFill/>
          </a:ln>
        </p:spPr>
      </p:pic>
      <p:pic>
        <p:nvPicPr>
          <p:cNvPr id="274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2133720"/>
            <a:ext cx="698400" cy="990360"/>
          </a:xfrm>
          <a:prstGeom prst="rect">
            <a:avLst/>
          </a:prstGeom>
          <a:ln w="0">
            <a:noFill/>
          </a:ln>
        </p:spPr>
      </p:pic>
      <p:pic>
        <p:nvPicPr>
          <p:cNvPr id="275" name="images" descr=""/>
          <p:cNvPicPr/>
          <p:nvPr/>
        </p:nvPicPr>
        <p:blipFill>
          <a:blip r:embed="rId7"/>
          <a:stretch/>
        </p:blipFill>
        <p:spPr>
          <a:xfrm>
            <a:off x="1143000" y="5791320"/>
            <a:ext cx="762120" cy="568080"/>
          </a:xfrm>
          <a:prstGeom prst="rect">
            <a:avLst/>
          </a:prstGeom>
          <a:ln w="0">
            <a:noFill/>
          </a:ln>
        </p:spPr>
      </p:pic>
      <p:pic>
        <p:nvPicPr>
          <p:cNvPr id="276" name="images" descr=""/>
          <p:cNvPicPr/>
          <p:nvPr/>
        </p:nvPicPr>
        <p:blipFill>
          <a:blip r:embed="rId8"/>
          <a:stretch/>
        </p:blipFill>
        <p:spPr>
          <a:xfrm>
            <a:off x="1143000" y="3276720"/>
            <a:ext cx="914400" cy="590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828800" y="1295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b5249"/>
                </a:solidFill>
                <a:latin typeface="Times New Roman"/>
              </a:rPr>
              <a:t>Escriu què fa cada animal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2438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L’aranya camin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3352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343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5257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09680" y="60199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05120" y="6019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15200" y="2971800"/>
            <a:ext cx="1523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b5249"/>
                </a:solidFill>
                <a:latin typeface="Times New Roman"/>
              </a:rPr>
              <a:t>Camin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b5249"/>
                </a:solidFill>
                <a:latin typeface="Times New Roman"/>
              </a:rPr>
              <a:t>Ned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b5249"/>
                </a:solidFill>
                <a:latin typeface="Times New Roman"/>
              </a:rPr>
              <a:t>Salt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b5249"/>
                </a:solidFill>
                <a:latin typeface="Times New Roman"/>
              </a:rPr>
              <a:t>Rept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b5249"/>
                </a:solidFill>
                <a:latin typeface="Times New Roman"/>
              </a:rPr>
              <a:t>Córr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91120" y="2743200"/>
            <a:ext cx="312408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400" spc="-1" strike="noStrike">
                <a:solidFill>
                  <a:srgbClr val="2a3d7a"/>
                </a:solidFill>
                <a:latin typeface="Times New Roman"/>
              </a:rPr>
              <a:t>Els anim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5b5249"/>
                </a:solidFill>
                <a:latin typeface="Times New Roman"/>
              </a:rPr>
              <a:t>Els </a:t>
            </a:r>
            <a:r>
              <a:rPr b="1" lang="ca-ES" sz="2800" spc="-1" strike="noStrike">
                <a:solidFill>
                  <a:srgbClr val="5b5249"/>
                </a:solidFill>
                <a:latin typeface="Times New Roman"/>
              </a:rPr>
              <a:t>animals</a:t>
            </a:r>
            <a:r>
              <a:rPr b="0" lang="ca-ES" sz="2800" spc="-1" strike="noStrike">
                <a:solidFill>
                  <a:srgbClr val="5b5249"/>
                </a:solidFill>
                <a:latin typeface="Times New Roman"/>
              </a:rPr>
              <a:t> són </a:t>
            </a:r>
            <a:r>
              <a:rPr b="1" lang="ca-ES" sz="2800" spc="-1" strike="noStrike">
                <a:solidFill>
                  <a:srgbClr val="5b5249"/>
                </a:solidFill>
                <a:latin typeface="Times New Roman"/>
              </a:rPr>
              <a:t>éssers vius</a:t>
            </a:r>
            <a:r>
              <a:rPr b="0" lang="ca-ES" sz="2800" spc="-1" strike="noStrike">
                <a:solidFill>
                  <a:srgbClr val="5b5249"/>
                </a:solidFill>
                <a:latin typeface="Times New Roman"/>
              </a:rPr>
              <a:t> que necessiten d’altres animals o </a:t>
            </a:r>
            <a:r>
              <a:rPr b="1" lang="ca-ES" sz="2800" spc="-1" strike="noStrike">
                <a:solidFill>
                  <a:srgbClr val="5b5249"/>
                </a:solidFill>
                <a:latin typeface="Times New Roman"/>
              </a:rPr>
              <a:t>plantes</a:t>
            </a:r>
            <a:r>
              <a:rPr b="0" lang="ca-ES" sz="2800" spc="-1" strike="noStrike">
                <a:solidFill>
                  <a:srgbClr val="5b5249"/>
                </a:solidFill>
                <a:latin typeface="Times New Roman"/>
              </a:rPr>
              <a:t> per </a:t>
            </a:r>
            <a:r>
              <a:rPr b="1" lang="ca-ES" sz="2800" spc="-1" strike="noStrike">
                <a:solidFill>
                  <a:srgbClr val="5b5249"/>
                </a:solidFill>
                <a:latin typeface="Times New Roman"/>
              </a:rPr>
              <a:t>alimentar-se</a:t>
            </a:r>
            <a:r>
              <a:rPr b="0" lang="ca-ES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5b5249"/>
                </a:solidFill>
                <a:latin typeface="Times New Roman"/>
              </a:rPr>
              <a:t>La major part dels animals </a:t>
            </a:r>
            <a:r>
              <a:rPr b="1" lang="ca-ES" sz="2800" spc="-1" strike="noStrike">
                <a:solidFill>
                  <a:srgbClr val="5b5249"/>
                </a:solidFill>
                <a:latin typeface="Times New Roman"/>
              </a:rPr>
              <a:t>es</a:t>
            </a:r>
            <a:r>
              <a:rPr b="0" lang="ca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ca-ES" sz="2800" spc="-1" strike="noStrike">
                <a:solidFill>
                  <a:srgbClr val="5b5249"/>
                </a:solidFill>
                <a:latin typeface="Times New Roman"/>
              </a:rPr>
              <a:t>desplacen</a:t>
            </a:r>
            <a:r>
              <a:rPr b="0" lang="ca-ES" sz="2800" spc="-1" strike="noStrike">
                <a:solidFill>
                  <a:srgbClr val="5b5249"/>
                </a:solidFill>
                <a:latin typeface="Times New Roman"/>
              </a:rPr>
              <a:t> per buscar el seu </a:t>
            </a:r>
            <a:r>
              <a:rPr b="1" lang="ca-ES" sz="2800" spc="-1" strike="noStrike">
                <a:solidFill>
                  <a:srgbClr val="5b5249"/>
                </a:solidFill>
                <a:latin typeface="Times New Roman"/>
              </a:rPr>
              <a:t>ali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4267080"/>
            <a:ext cx="1981080" cy="1228680"/>
          </a:xfrm>
          <a:prstGeom prst="rect">
            <a:avLst/>
          </a:prstGeom>
          <a:ln w="0">
            <a:noFill/>
          </a:ln>
        </p:spPr>
      </p:pic>
      <p:pic>
        <p:nvPicPr>
          <p:cNvPr id="105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1905120"/>
            <a:ext cx="1771560" cy="1325520"/>
          </a:xfrm>
          <a:prstGeom prst="rect">
            <a:avLst/>
          </a:prstGeom>
          <a:ln w="0">
            <a:noFill/>
          </a:ln>
        </p:spPr>
      </p:pic>
      <p:pic>
        <p:nvPicPr>
          <p:cNvPr id="106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05520" y="1905120"/>
            <a:ext cx="1482480" cy="1981080"/>
          </a:xfrm>
          <a:prstGeom prst="rect">
            <a:avLst/>
          </a:prstGeom>
          <a:ln w="0">
            <a:noFill/>
          </a:ln>
        </p:spPr>
      </p:pic>
      <p:pic>
        <p:nvPicPr>
          <p:cNvPr id="107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238880" y="3505320"/>
            <a:ext cx="131148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2a3d7a"/>
                </a:solidFill>
                <a:latin typeface="Times New Roman"/>
              </a:rPr>
              <a:t>Diccionari visu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886200"/>
            <a:ext cx="104292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213372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111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3962520"/>
            <a:ext cx="1371600" cy="879480"/>
          </a:xfrm>
          <a:prstGeom prst="rect">
            <a:avLst/>
          </a:prstGeom>
          <a:ln w="0">
            <a:noFill/>
          </a:ln>
        </p:spPr>
      </p:pic>
      <p:pic>
        <p:nvPicPr>
          <p:cNvPr id="112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4419720"/>
            <a:ext cx="903240" cy="1074600"/>
          </a:xfrm>
          <a:prstGeom prst="rect">
            <a:avLst/>
          </a:prstGeom>
          <a:ln w="0">
            <a:noFill/>
          </a:ln>
        </p:spPr>
      </p:pic>
      <p:pic>
        <p:nvPicPr>
          <p:cNvPr id="113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0" y="3809880"/>
            <a:ext cx="846000" cy="1131840"/>
          </a:xfrm>
          <a:prstGeom prst="rect">
            <a:avLst/>
          </a:prstGeom>
          <a:ln w="0">
            <a:noFill/>
          </a:ln>
        </p:spPr>
      </p:pic>
      <p:pic>
        <p:nvPicPr>
          <p:cNvPr id="114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2209680"/>
            <a:ext cx="1085760" cy="892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62320" y="5257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b5249"/>
                </a:solidFill>
                <a:latin typeface="Times New Roman"/>
              </a:rPr>
              <a:t>Anim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3124080"/>
            <a:ext cx="13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Ésser vi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7720" y="312408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Ésser inert (no viu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49528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Plan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8280" y="5029200"/>
            <a:ext cx="1895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Es desplac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(desplaçar-s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320040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Alim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Alimentar-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images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19320" y="2057400"/>
            <a:ext cx="1268280" cy="10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1371600"/>
            <a:ext cx="6248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Busca al </a:t>
            </a:r>
            <a:r>
              <a:rPr b="1" lang="ca-ES" sz="1800" spc="-1" strike="noStrike">
                <a:solidFill>
                  <a:srgbClr val="5b5249"/>
                </a:solidFill>
                <a:latin typeface="Times New Roman"/>
              </a:rPr>
              <a:t>diccionari</a:t>
            </a: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 les següents paraules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0" i="1" lang="ca-ES" sz="1800" spc="-1" strike="noStrike">
                <a:solidFill>
                  <a:srgbClr val="5b5249"/>
                </a:solidFill>
                <a:latin typeface="Times New Roman"/>
              </a:rPr>
              <a:t>Pels alumnes xinesos o pels alumnes de segona llengua anglesa</a:t>
            </a: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2306520"/>
            <a:ext cx="41911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Animal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Ésser viu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Planta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Desplaçar-se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Aliment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14479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La major part dels animals </a:t>
            </a:r>
            <a:r>
              <a:rPr b="1" lang="ca-ES" sz="1800" spc="-1" strike="noStrike">
                <a:solidFill>
                  <a:srgbClr val="5b5249"/>
                </a:solidFill>
                <a:latin typeface="Times New Roman"/>
              </a:rPr>
              <a:t>es</a:t>
            </a: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ca-ES" sz="1800" spc="-1" strike="noStrike">
                <a:solidFill>
                  <a:srgbClr val="5b5249"/>
                </a:solidFill>
                <a:latin typeface="Times New Roman"/>
              </a:rPr>
              <a:t>desplacen</a:t>
            </a: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 per buscar </a:t>
            </a:r>
            <a:r>
              <a:rPr b="1" lang="ca-ES" sz="1800" spc="-1" strike="noStrike">
                <a:solidFill>
                  <a:srgbClr val="5b5249"/>
                </a:solidFill>
                <a:latin typeface="Times New Roman"/>
              </a:rPr>
              <a:t>aliment</a:t>
            </a: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8400" y="259092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L’aranya camin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438280"/>
            <a:ext cx="879480" cy="1246320"/>
          </a:xfrm>
          <a:prstGeom prst="rect">
            <a:avLst/>
          </a:prstGeom>
          <a:ln w="0">
            <a:noFill/>
          </a:ln>
        </p:spPr>
      </p:pic>
      <p:pic>
        <p:nvPicPr>
          <p:cNvPr id="128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362320"/>
            <a:ext cx="1622160" cy="1211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25480" y="3809880"/>
            <a:ext cx="20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La granota salta i ned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2057400"/>
            <a:ext cx="157140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318080" y="42670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El peix ned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71600" y="3962520"/>
            <a:ext cx="2209680" cy="1649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52480" y="5867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El cavall corr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343400" y="4419720"/>
            <a:ext cx="2282760" cy="1474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15000" y="6095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El cuc rept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600" y="2057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El peix ned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81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El cavall corr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657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La granota salta i ned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38862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4956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El cuc rep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5486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L’aranya camin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10666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b5249"/>
                </a:solidFill>
                <a:latin typeface="Times New Roman"/>
              </a:rPr>
              <a:t>Relaciona cada frase amb la fotografi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352680"/>
            <a:ext cx="879480" cy="1246320"/>
          </a:xfrm>
          <a:prstGeom prst="rect">
            <a:avLst/>
          </a:prstGeom>
          <a:ln w="0">
            <a:noFill/>
          </a:ln>
        </p:spPr>
      </p:pic>
      <p:pic>
        <p:nvPicPr>
          <p:cNvPr id="144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4495680"/>
            <a:ext cx="1219320" cy="909720"/>
          </a:xfrm>
          <a:prstGeom prst="rect">
            <a:avLst/>
          </a:prstGeom>
          <a:ln w="0">
            <a:noFill/>
          </a:ln>
        </p:spPr>
      </p:pic>
      <p:pic>
        <p:nvPicPr>
          <p:cNvPr id="14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2920" y="1600200"/>
            <a:ext cx="817560" cy="990720"/>
          </a:xfrm>
          <a:prstGeom prst="rect">
            <a:avLst/>
          </a:prstGeom>
          <a:ln w="0">
            <a:noFill/>
          </a:ln>
        </p:spPr>
      </p:pic>
      <p:pic>
        <p:nvPicPr>
          <p:cNvPr id="146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29200" y="2057400"/>
            <a:ext cx="1371600" cy="1023840"/>
          </a:xfrm>
          <a:prstGeom prst="rect">
            <a:avLst/>
          </a:prstGeom>
          <a:ln w="0">
            <a:noFill/>
          </a:ln>
        </p:spPr>
      </p:pic>
      <p:pic>
        <p:nvPicPr>
          <p:cNvPr id="147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5410080"/>
            <a:ext cx="1219320" cy="78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84920" y="1143000"/>
            <a:ext cx="72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5b5249"/>
                </a:solidFill>
                <a:latin typeface="Times New Roman"/>
              </a:rPr>
              <a:t>Perquè la  major part dels animals puguin alimentar-se  tenen una sèrie</a:t>
            </a: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ca-ES" sz="1600" spc="-1" strike="noStrike">
                <a:solidFill>
                  <a:srgbClr val="5b5249"/>
                </a:solidFill>
                <a:latin typeface="Times New Roman"/>
              </a:rPr>
              <a:t>d’òrgans</a:t>
            </a: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1600200"/>
            <a:ext cx="2438640" cy="6094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SISTEMA NERVIÓ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2590920"/>
            <a:ext cx="91440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VIST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2590920"/>
            <a:ext cx="106704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OÏD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590920"/>
            <a:ext cx="121932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OLFACT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2590920"/>
            <a:ext cx="114300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TACT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590920"/>
            <a:ext cx="99072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GUS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3276720"/>
            <a:ext cx="25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5b5249"/>
                </a:solidFill>
                <a:latin typeface="Times New Roman"/>
              </a:rPr>
              <a:t>ÒRGANS DELS SENTIT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752120" y="1905120"/>
            <a:ext cx="16002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572000" y="220932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1905120"/>
            <a:ext cx="0" cy="60948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220968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895480" y="2438280"/>
            <a:ext cx="14479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2438280"/>
            <a:ext cx="0" cy="1526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220968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438280"/>
            <a:ext cx="1371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2438280"/>
            <a:ext cx="0" cy="1526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190512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1905120"/>
            <a:ext cx="0" cy="685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3048120"/>
            <a:ext cx="152424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4640" y="3048120"/>
            <a:ext cx="1523880" cy="3045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30481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3048120"/>
            <a:ext cx="152280" cy="1522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409720" y="3048120"/>
            <a:ext cx="228600" cy="1522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4267080"/>
            <a:ext cx="220968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b5249"/>
                </a:solidFill>
                <a:latin typeface="Times New Roman"/>
              </a:rPr>
              <a:t>Aparell locomot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5029200"/>
            <a:ext cx="2286000" cy="6094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b5249"/>
                </a:solidFill>
                <a:latin typeface="Times New Roman"/>
              </a:rPr>
              <a:t>Aparell digestiu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6019920"/>
            <a:ext cx="228600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b5249"/>
                </a:solidFill>
                <a:latin typeface="Times New Roman"/>
              </a:rPr>
              <a:t>Aparell respiratori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267080"/>
            <a:ext cx="251460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b5249"/>
                </a:solidFill>
                <a:latin typeface="Times New Roman"/>
              </a:rPr>
              <a:t>Aparell circulatori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5105520"/>
            <a:ext cx="2514600" cy="6094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b5249"/>
                </a:solidFill>
                <a:latin typeface="Times New Roman"/>
              </a:rPr>
              <a:t>Aparell excret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133720" y="9907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2a3d7a"/>
                </a:solidFill>
                <a:latin typeface="Times New Roman"/>
              </a:rPr>
              <a:t>Diccionari visual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8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1600200"/>
            <a:ext cx="966600" cy="1523880"/>
          </a:xfrm>
          <a:prstGeom prst="rect">
            <a:avLst/>
          </a:prstGeom>
          <a:ln w="0">
            <a:noFill/>
          </a:ln>
        </p:spPr>
      </p:pic>
      <p:pic>
        <p:nvPicPr>
          <p:cNvPr id="179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1752480"/>
            <a:ext cx="846360" cy="1371600"/>
          </a:xfrm>
          <a:prstGeom prst="rect">
            <a:avLst/>
          </a:prstGeom>
          <a:ln w="0">
            <a:noFill/>
          </a:ln>
        </p:spPr>
      </p:pic>
      <p:pic>
        <p:nvPicPr>
          <p:cNvPr id="180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1752480"/>
            <a:ext cx="960480" cy="1295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92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2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38080" y="1905120"/>
            <a:ext cx="1543320" cy="1063440"/>
          </a:xfrm>
          <a:prstGeom prst="rect">
            <a:avLst/>
          </a:prstGeom>
          <a:ln w="0">
            <a:noFill/>
          </a:ln>
        </p:spPr>
      </p:pic>
      <p:pic>
        <p:nvPicPr>
          <p:cNvPr id="183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362320" y="3657600"/>
            <a:ext cx="1177920" cy="1211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62120" y="3657600"/>
            <a:ext cx="1485720" cy="936720"/>
          </a:xfrm>
          <a:prstGeom prst="rect">
            <a:avLst/>
          </a:prstGeom>
          <a:ln w="0">
            <a:noFill/>
          </a:ln>
        </p:spPr>
      </p:pic>
      <p:pic>
        <p:nvPicPr>
          <p:cNvPr id="185" name="images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962520" y="5410080"/>
            <a:ext cx="612720" cy="838440"/>
          </a:xfrm>
          <a:prstGeom prst="rect">
            <a:avLst/>
          </a:prstGeom>
          <a:ln w="0">
            <a:noFill/>
          </a:ln>
        </p:spPr>
      </p:pic>
      <p:pic>
        <p:nvPicPr>
          <p:cNvPr id="186" name="images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15000" y="5410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87" name="images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781680" y="5334120"/>
            <a:ext cx="633600" cy="838080"/>
          </a:xfrm>
          <a:prstGeom prst="rect">
            <a:avLst/>
          </a:prstGeom>
          <a:ln w="0">
            <a:noFill/>
          </a:ln>
        </p:spPr>
      </p:pic>
      <p:pic>
        <p:nvPicPr>
          <p:cNvPr id="188" name="images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334120" y="3962520"/>
            <a:ext cx="1981080" cy="566640"/>
          </a:xfrm>
          <a:prstGeom prst="rect">
            <a:avLst/>
          </a:prstGeom>
          <a:ln w="0">
            <a:noFill/>
          </a:ln>
        </p:spPr>
      </p:pic>
      <p:pic>
        <p:nvPicPr>
          <p:cNvPr id="189" name="images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620120" y="5410080"/>
            <a:ext cx="604800" cy="685800"/>
          </a:xfrm>
          <a:prstGeom prst="rect">
            <a:avLst/>
          </a:prstGeom>
          <a:ln w="0">
            <a:noFill/>
          </a:ln>
        </p:spPr>
      </p:pic>
      <p:pic>
        <p:nvPicPr>
          <p:cNvPr id="190" name="images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800600" y="5410080"/>
            <a:ext cx="762120" cy="609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66680" y="297180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Aparell respiratori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31240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Aparell digestiu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200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Aparell locomotor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15200" y="3124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Aparell circulatori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4724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Cervell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48006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Sistema nerviós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7" name="images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2895480" y="1905120"/>
            <a:ext cx="955800" cy="990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743200" y="3048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Aparell excretor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4114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Els sentits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64008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Vist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6400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Gust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6400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Oïd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64008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Olfacte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6400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Tacte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5105520"/>
            <a:ext cx="358128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495680"/>
            <a:ext cx="0" cy="6098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51055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1055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51055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51055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1055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52480" y="1219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Anomena els aparells següent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1752480"/>
            <a:ext cx="1828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828800"/>
            <a:ext cx="1542960" cy="1063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838080" y="30481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1752480"/>
            <a:ext cx="1828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39625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9625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9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905120"/>
            <a:ext cx="955800" cy="990360"/>
          </a:xfrm>
          <a:prstGeom prst="rect">
            <a:avLst/>
          </a:prstGeom>
          <a:ln w="0">
            <a:noFill/>
          </a:ln>
        </p:spPr>
      </p:pic>
      <p:pic>
        <p:nvPicPr>
          <p:cNvPr id="220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4038480"/>
            <a:ext cx="790560" cy="1067040"/>
          </a:xfrm>
          <a:prstGeom prst="rect">
            <a:avLst/>
          </a:prstGeom>
          <a:ln w="0">
            <a:noFill/>
          </a:ln>
        </p:spPr>
      </p:pic>
      <p:pic>
        <p:nvPicPr>
          <p:cNvPr id="221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4038480"/>
            <a:ext cx="658800" cy="1067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76720" y="5410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53341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3124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1752480"/>
            <a:ext cx="1828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6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29400" y="1905120"/>
            <a:ext cx="676440" cy="1066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095880" y="3124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5:07:51Z</dcterms:created>
  <dc:creator>Paco Romero</dc:creator>
  <dc:description/>
  <dc:language>en-US</dc:language>
  <cp:lastModifiedBy>Paco Romero</cp:lastModifiedBy>
  <dcterms:modified xsi:type="dcterms:W3CDTF">2005-11-02T19:44:40Z</dcterms:modified>
  <cp:revision>13</cp:revision>
  <dc:subject/>
  <dc:title>Unitat 4     Els animals</dc:title>
</cp:coreProperties>
</file>